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8672E-E2F5-4337-9541-23DC6E7A3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88FF0-997E-4A21-A411-23561175A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89FB3-3F2D-4863-B992-EBB42041B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1142E-BAB6-457D-9200-A8A5E0C22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15FD6-C878-4779-8AA8-027E79E55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68897-BEC0-4719-BB6D-5541C8ABF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2C941-F785-48BB-A263-C3EF295FF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73EEE-B0A1-4755-A59A-113AED3B7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1FF1D-5CDF-4549-91A3-F6E7B0082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D00EC-2222-49CF-A86A-53ACA046E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B1289-500B-4D1A-ABA1-EA5BFA091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22C43-CE14-4B80-9DC5-61320CCDE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29E7E-A88D-4C1C-AA96-4C741C3AAFBE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900" spc="-1" strike="noStrike">
                <a:solidFill>
                  <a:srgbClr val="000000"/>
                </a:solidFill>
                <a:latin typeface="Comic Sans MS"/>
              </a:rPr>
              <a:t>El patio de mi casa</a:t>
            </a:r>
            <a:br>
              <a:rPr sz="4900"/>
            </a:b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999720"/>
            <a:ext cx="822960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El patio de mi casa es particular:</a:t>
            </a:r>
            <a:br>
              <a:rPr sz="3200"/>
            </a:b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cuando llueve se moja, como los demás.</a:t>
            </a:r>
            <a:br>
              <a:rPr sz="3200"/>
            </a:b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Agáchate y vuélvete a agachar</a:t>
            </a:r>
            <a:br>
              <a:rPr sz="3200"/>
            </a:b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que los agachaditos no pueden baila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(saltar)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omic Sans MS"/>
              </a:rPr>
              <a:t>Hache, i, jota, k, ele, elle, eme, A</a:t>
            </a:r>
            <a:br>
              <a:rPr sz="3200"/>
            </a:b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que si tú no me quieres, otro amante me querrá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omic Sans MS"/>
              </a:rPr>
              <a:t>Hache, i, jota, k, ele, elle, eme, O</a:t>
            </a:r>
            <a:br>
              <a:rPr sz="3200"/>
            </a:b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que si tú no me quieres, otro amante tendré y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Para aprender las letras del alfabeto y curar el mal de amores.</a:t>
            </a:r>
            <a:br>
              <a:rPr sz="2200"/>
            </a:b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To learn the alphabet and cure lovesickness!</a:t>
            </a:r>
            <a:br>
              <a:rPr sz="2200"/>
            </a:b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Music file available at: http://www.pequenet.com/canciones/10_musi_master.asp?id=349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The patio in my house is privat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When it rains it gets wet like all the othe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Crouch down, and crouch down agai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The crouched down children can’t dance/jump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H, I, J, K, L, LL, M, 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If you don’t love me another will love m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H, I, J, K, L, LL, M, A, 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If you don’t love me I’ll have another!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9T20:22:13Z</dcterms:created>
  <dc:creator>Teacher</dc:creator>
  <dc:description/>
  <dc:language>en-US</dc:language>
  <cp:lastModifiedBy>Teacher</cp:lastModifiedBy>
  <dcterms:modified xsi:type="dcterms:W3CDTF">2010-02-19T20:40:47Z</dcterms:modified>
  <cp:revision>2</cp:revision>
  <dc:subject/>
  <dc:title>El patio de mi casa </dc:title>
</cp:coreProperties>
</file>